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69A36-E873-4322-B0F7-5DA18E5F0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6BC2E-50CB-4BE5-A63A-09079FDE0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7D422-DED8-4B83-9F13-9B2610874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640B8-F0D0-4624-9B14-1DC384961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9D12C-A17C-4D42-BC2B-FB7FCEFAB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6CD-756C-4CBF-A616-C09EB236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1F5-F5D5-4855-98A7-73DA651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C22-2D1D-46D5-ABC2-B258B8DA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709-7C03-4532-9916-8F9B3926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3FA2-35C3-433E-AAA2-E9E6F803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6AEF-4F5C-4D4B-B26B-53A84BAE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A48E-4BF9-4C0B-9A77-D272FF10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95C0-CED9-4DA0-959C-ACF7ACED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E0F1-2F12-4531-A1FE-723143E1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4D8C-3B34-4E16-9E0A-FC5CD2C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980-88E2-48EB-9AED-545A5174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A09-0106-4E39-8A4C-8E992C98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3F5F-A48F-432E-A294-340C899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6B81-9149-480F-85B2-2F942FE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9A7F-3477-473D-BC21-3BFE295D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2BCA-5BEE-4D5E-BA25-8D03B62C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B839-7754-4F0E-953F-6E731E14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342-37D9-407C-B3DC-2729D2A1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C95-AD9F-4E97-9A92-F246B654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046-B1CF-4A84-A9AD-71C453E6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44A-1D99-45B7-8083-8BFCE55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98D-F798-4358-ABD6-EB03727B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7E6-6B45-46F2-9D8B-79C2885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5A3-4FBF-4622-955B-122F26A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E3C93-C16E-4260-83C4-1DDCA0FA69B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7343C-5CDC-4F93-BA62-139B7167F87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8DA4A-B567-4110-9A43-30952DCA229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6B6AC-C78B-4ADB-AB17-290A34ECEF5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385560"/>
            <a:ext cx="649944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mma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757680"/>
            <a:ext cx="649944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8579b"/>
                </a:solidFill>
                <a:latin typeface="News Gothic MT"/>
              </a:rPr>
              <a:t>10 Rules When Using Commas</a:t>
            </a:r>
            <a:endParaRPr b="0" lang="en-US" sz="3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191200" y="596268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Caitlin Gordon and Julie Holton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93" name="Picture 4" descr="commas.jpg"/>
          <p:cNvPicPr/>
          <p:nvPr/>
        </p:nvPicPr>
        <p:blipFill>
          <a:blip r:embed="rId1"/>
          <a:stretch/>
        </p:blipFill>
        <p:spPr>
          <a:xfrm>
            <a:off x="2903400" y="2111400"/>
            <a:ext cx="3494160" cy="164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2: Using a comma after an introductory word group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als with sentences that tell information such as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en, where, how,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, or under what conditions the main action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While I was getting ready to leave, I realized that I was missing my key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Two Exception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ule exception: A comma is unnecessary after a short adverb clause or phrase, if there is no danger of misreadin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After much work we made it to the top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 Tip for Rule Two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helpful tip when using the second rule is the place a comma after the third descriptive word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 Tip for Rule Two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helpful tip when using the second rule is the place a comma after the third descriptive word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While driving home, I began to remember everything that I left at schoo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Two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s rule is also used in sentences that begin with a participle phrase, which are describing the subjec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ntroduces the reader to the fact that they are about to learn the identity of the subjec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Two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s rule is also used in sentences that begin with a participle phrase, which are describing the subjec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ntroduces the reader to the fact that they are about to learn the identity of the subjec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aring her new dress, Kayla walked confidently into the room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n also be used with transitions and absolute phras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ule 3: Using a comma between all items in a series.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en three or more items are present in a series, they should be separated from one another using comma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ule 3: Using a comma between all items in a series.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en three or more items are present in a series, they should be separated from one another using comma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 liked the shirt so much that I got it in pink, blue, purple, and blac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-3304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ule Three Continued…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00620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p: Although sometimes the comma is omitted after the second to last item in a series, doing so may result in a misreading of the sent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My list of daily chores includes making my bed, washing the dishes, sweeping and vacuuming the carpe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3" name="Picture 4" descr="index.jpg"/>
          <p:cNvPicPr/>
          <p:nvPr/>
        </p:nvPicPr>
        <p:blipFill>
          <a:blip r:embed="rId1"/>
          <a:stretch/>
        </p:blipFill>
        <p:spPr>
          <a:xfrm>
            <a:off x="549360" y="3613320"/>
            <a:ext cx="4419360" cy="2993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351640947_817270a997_z.jpg"/>
          <p:cNvPicPr/>
          <p:nvPr/>
        </p:nvPicPr>
        <p:blipFill>
          <a:blip r:embed="rId2"/>
          <a:stretch/>
        </p:blipFill>
        <p:spPr>
          <a:xfrm>
            <a:off x="5361120" y="3579840"/>
            <a:ext cx="3782880" cy="302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4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a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Purpose of a Comma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2001"/>
              </a:spcBef>
              <a:buClr>
                <a:srgbClr val="6fb7d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News Gothic MT"/>
              </a:rPr>
              <a:t>The comma was created to help readers distinguish between two parts of a sentence.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549360" y="3719520"/>
            <a:ext cx="77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6fb7d7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News Gothic MT"/>
              </a:rPr>
              <a:t>Without a comma, there is a chance for a misreading of the information. 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04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and.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he snow was cold, shimmering and brigh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4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2200" spc="-1" strike="noStrike">
                <a:solidFill>
                  <a:srgbClr val="595959"/>
                </a:solidFill>
                <a:latin typeface="News Gothic MT"/>
              </a:rPr>
              <a:t>and.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The snow was cold, shimmering and bright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umulative adjectives are those that cannot modify a noun separatel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My annoying little brother broke my mom’s favorite vase.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0400" y="211248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and.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1800" spc="-1" strike="noStrike">
                <a:solidFill>
                  <a:srgbClr val="595959"/>
                </a:solidFill>
                <a:latin typeface="News Gothic MT"/>
              </a:rPr>
              <a:t>The snow was cold, shimmering and bright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umulative adjectives are those that cannot modify a noun separatel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1800" spc="-1" strike="noStrike">
                <a:solidFill>
                  <a:srgbClr val="595959"/>
                </a:solidFill>
                <a:latin typeface="News Gothic MT"/>
              </a:rPr>
              <a:t>My annoying little brother broke my mom’s favorite vase. 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 tip to remember for this rule, is if you can put the word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and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into the sentence, they are coordinate adjectives and a comma can be used.  If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and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can be used in replacement of a comma, the adjectives are coordinate rather than cumulative.  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932040"/>
            <a:ext cx="804204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5: Using a comma to set off nonrestrictive elements. Do not use commas to set off restrictive elements. 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ords that describe a noun or pronoun are eith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strictiv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o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nonrestrictiv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strictive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change the meaning of a sentence greatly if removed and are important in clarif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Nonrestrictive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re used for words whose meaning has already been described and for nonessential informati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Fiv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 fo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strictiv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 all got new shoes, that were blac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 fo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unrestrictive: My mom bought me a new pair of pants, which were too big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Rule 6: Using commas to set off transitional and parenthetical expressions, absolute phrases, and contrasted elements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are transitional expressions: They are bridges that connect sentences or parts of sentenc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s: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however, moreover, therefo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Rule 6: Using commas to set off transitional and parenthetical expressions, absolute phrases, and contrasted elements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12840" y="1600200"/>
            <a:ext cx="827856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are transitional expressions: They are bridges that connect sentences or parts of sentenc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s: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however, moreover, therefo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 of transitional expression using a comma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 thought the assignment for class was due tomorrow; however, it was due toda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arenthetical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 all did well on the quiz, or so we though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Rule 6: Using commas to set off transitional and parenthetical expressions, absolute phrases, and contrasted elements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12840" y="1600200"/>
            <a:ext cx="827856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are transitional expressions: They are bridges that connect sentences or parts of sentence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s: </a:t>
            </a:r>
            <a:r>
              <a:rPr b="0" i="1" lang="en-US" sz="2200" spc="-1" strike="noStrike">
                <a:solidFill>
                  <a:srgbClr val="595959"/>
                </a:solidFill>
                <a:latin typeface="News Gothic MT"/>
              </a:rPr>
              <a:t>however, moreover, therefor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 of transitional expression using a comma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 thought the assignment for class was due tomorrow; however, it was due toda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renthetical 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We all did well on the quiz, or so we thought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bsolute phrases 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 decided that I need to do laundry, Having discovered that I was out of clean shirt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rasted Elements 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We were hoping for a snow day, not a snow delay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932040"/>
            <a:ext cx="804204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7: Using commas to set off nouns of direct address, the words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yes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 and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no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, interrogative tags, and mild interjections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rect address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’m sorry, Mom, for not telling you that I would be late for curfew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es and no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No, I’m not busy this weeke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rrogative tags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hat party was a lot of fun, y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ld interjections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ll, I didn’t think it wa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9000" y="6696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8: Using commas with expressions such as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he sai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 to set off direct quotation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ace the comma at the end of the word before the quote begi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On the first day of class, the professor told the class, “If you’re going to fall asleep in class, don’t bother even showing up.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2934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: Using a comma before a coordinating conjunction joining independent clauses.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179800" y="5073480"/>
            <a:ext cx="7715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9: Using commas with dates, addresses, titles, and numbers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ates: Use a comma to set the year off from the rest of the sent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 learned that on July 4, 1776, the US Constitution was sign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dresses: Place names and the various parts of an address are separated by comma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he correct mailing address for Alma College is 614 W. Superior St., Alma, MI 48801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Nin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tles: Titles should be separated from the rest of a name using a com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regory House, MD, is a fictional television charact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mbers: If a number is four or more digits long, use a comma to separate numbers in groups of three, starting from the last digit to the righ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3500➜3,5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0: Using a comma to prevent confusion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me contexts, including those where a word is omitted, has two similar words next to one another, or those with words that could accidently be grouped, a comma is needed to prevent confus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0: Using a comma to prevent confusion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me contexts, including those where a word is omitted, has two similar words next to one another, or those with words that could accidently be grouped, a comma is needed to prevent confus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For those who are able, please exit to your lef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2934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: Using a comma before a coordinating conjunction joining independent clauses.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ependent clauses: word groups that </a:t>
            </a: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could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stand alone as separate clau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179800" y="5073480"/>
            <a:ext cx="7715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932040"/>
            <a:ext cx="804204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: Using a comma before a coordinating conjunction joining independent clauses.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dependent clauses: word groups that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could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stand alone as separate claus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7 coordinate conjunctions: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and, but, or, nor, for, so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nd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ye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179800" y="5073480"/>
            <a:ext cx="7715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06" name="Picture 4" descr="2731441455_550f775698.jpg"/>
          <p:cNvPicPr/>
          <p:nvPr/>
        </p:nvPicPr>
        <p:blipFill>
          <a:blip r:embed="rId1"/>
          <a:stretch/>
        </p:blipFill>
        <p:spPr>
          <a:xfrm>
            <a:off x="3821040" y="3990960"/>
            <a:ext cx="477036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On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at does the comma do? The comma is used to tell the reader that the first independent clause is done and the second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On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at does the comma do? The comma is used to tell the reader that the first independent clause is done and the second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I usually wake up late for class, but today I woke up on tim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eption for Rule One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inder: Do not use a comma in a sentence of two coordinate word groups if they are not independent clau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oday we are learning about commas and how to use them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2: Using a comma after an introductory word group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als with sentences that tell information such as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en, where, how,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, or under what conditions the main action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8:21:09Z</dcterms:created>
  <dc:creator>Caitlin Gordon-Perkioniemi</dc:creator>
  <dc:description/>
  <dc:language>en-US</dc:language>
  <cp:lastModifiedBy>Caitlin Gordon-Perkioniemi</cp:lastModifiedBy>
  <dcterms:modified xsi:type="dcterms:W3CDTF">2011-01-21T16:15:21Z</dcterms:modified>
  <cp:revision>63</cp:revision>
  <dc:subject/>
  <dc:title>Commas</dc:title>
</cp:coreProperties>
</file>